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5.jpeg" ContentType="image/jpeg"/>
  <Override PartName="/ppt/media/image35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D5E-F042-412A-9A2C-197D183C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BDA-078F-4F78-9F9F-23D39884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53A-57B1-41ED-9064-AA3D31BE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F265-6B1F-48B1-AE34-AD8F7E5E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7580-8CD6-4B68-A78D-DCAFAA52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478B-C554-47B4-BC59-BEC831B8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D63F-41D8-49FE-8CBE-5FEDD7EB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9F32-6B01-4DCA-8621-6C9B5ED2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2B38-8728-47AC-A3F9-ABAAB9AA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2133-D7C5-4611-8411-2150CF41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5718-2CCA-4860-89A3-30252E04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92A-62FD-4DA2-872F-2619D94F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7951-0F84-4434-A3A9-A069BA91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7D99-962D-475D-BACA-5658DFC3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714F-3586-4D5C-8987-E11ABCD3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0045-9E89-4278-BFDA-663D4229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E506-9133-4D8E-B199-F73E557D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18D54-AADA-46EC-9EC4-B4468281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65299-3EFF-4464-960C-3CE354A2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FD6DB-73D0-47B6-BD0F-FEE59E81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9EF09-C9CC-45AB-9765-BAF9C199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88A4D-9685-454C-AE0B-AFBE13B8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287-2465-4160-9FD9-934C2BD3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52F9F-FDE2-48F7-991C-DF4588A8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670E5-BE49-4E6C-BD25-DAED9447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05796-EA46-4053-9021-9161EFF5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05867-F7D9-4CF5-AD88-E921EA5D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459A8-B5DD-4C07-A64D-64F32BDC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75A3-218C-4FC1-8554-92C262AE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AEEAE-7D3C-441D-9FCE-88030227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0C58F-5FDD-4FB5-8F95-4904ED1F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61E83-2CAB-4261-A716-726A5BAB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26F69-D70B-47F7-8112-3C1A91E9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98A-4553-4B88-917B-6FCC6274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86710-6A64-4E34-9DFC-BAE37106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9C122-F4B2-4058-AB6B-5EF5D29B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55044-84B2-40EA-867F-7304973F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96942-829D-44C9-97B0-FB7ABC1B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3A4AC-6E8B-40A0-BF36-F0E1E39F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8B0BC-DFF1-43F0-80EB-19AB440E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96AE8-C9DA-4C98-A509-B48C32A6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25DB0-DBBD-4EF7-80B0-D216EB63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3D201-C892-419E-8E16-085809F6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7E4D7-42AF-4343-B015-4D1AFEA9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A88B-6609-4550-874A-C26A4067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73141-FFEE-480A-B2D6-DBDC3107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14C25-6B2C-469C-9EC6-B4604D25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08A27-FC1B-408D-BF9A-C03A8209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DDEAD-BAC9-478C-9B73-D514DC64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46784-1173-470D-B360-B81200EF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C3126-33E5-4BF1-BC92-5E6C7021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511DE-3D5D-4B64-A6B5-A2DD5BFE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8866F-7936-4E8F-B3B6-2DEAC216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C366E-D32B-4669-96F4-8AA6EE37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61A93-7318-407E-87E1-914AFA52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29B-A0EB-4C41-B54A-2BC38C39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BDF1B-9344-45FD-84F6-BA82BD51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A4FE9-CF87-43A8-B9E9-B9E50FC1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3240A-09CD-4537-A9BC-EEA1B577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AC421-F9A9-4EEF-94F5-519F937F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E0396-0CAC-4319-993A-945F2D1A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6B43E-4BA2-47DB-804E-E360E59F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E889F-7C73-4528-991F-89FA8B0A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5B25F-6D03-43D7-9578-2E24D5C3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C20D9-5898-4929-89A8-63628009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8E342-55DD-45B6-8540-DF73E206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8CFE-3A44-465E-AA04-C37E1084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6CD0C-E7D7-4910-9807-8C1D8FA5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09D87-6266-435E-8992-DEB9C3E0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7E1AD-1DD2-40E0-9C8C-314057C7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01C62-9EC0-4AA2-80D8-05ED9DEA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8C5C1-11D6-4FC1-97EB-917595E5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98D48-8942-40CB-BF30-4A119DAB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386BD-4326-416E-89F5-5FA840CC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3E066-E5CE-42DB-9017-BEDDEAB7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65436-37B7-438E-9F15-58D62E60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37D6F-3F2D-444B-B06D-7C591C17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9EE-570F-4C26-B1C2-1CCCBC8B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8E562-4BF2-4729-A9FB-344515E6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99C59-89DA-48C2-BDAA-E163C519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B1D9B-6CF1-4554-B4D6-6DE179AE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B41A3-A20D-4D7C-83D9-C88208C3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B27FE-76D0-4AD7-AA6A-D39FC4EE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CECCA-655A-45E4-92DA-21D53DFE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92134-5455-4149-AC8B-CA202784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7952C-5E7A-4BFA-8D94-71C7130A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14811-FFCE-40C7-BDF4-B2D93427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E1597-C8AE-44B6-B4D8-DBFCC906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81B-2E7C-4D3F-B185-446087D8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20EA7-A2B0-46A8-8BA8-437F996B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75698-1E58-4957-83FD-4DDDF5BF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1F8E6-D7D4-4A97-A015-898035E0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92F89-597D-47BA-AC7E-132E5EEF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BC38E-B7B0-4805-96A5-AA7AABF7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11CF3-7EB9-4961-80DD-4D184139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D31E1-7A2D-47E4-BE2D-FDDBA65F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31D7-E63E-4296-9319-DBFD9C594FB5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8C43-ED59-4BEA-ABBC-AB06EF8FC57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3440-7D25-4FD5-82F2-4F10280D8A1C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C6C0-D4AC-4B1D-A6E8-8552AFB5D29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F816-2333-4F17-A12E-972A3C68B66D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E379-8731-40C4-A459-125F8BDC14B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6B48-35C2-4C42-845C-CDF492DC3A0B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D396-C29A-434A-94D6-5554124CDAE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AC69-BE42-40A7-85D0-78E2BCEE5BF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A4F2-2AE7-43B9-981F-F7A954E482D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D27F-453D-4C16-8FC8-C011A2E0AF93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A1E9-B3CC-4827-9AD6-1C91C02EDC2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3688-3DF4-445D-8F30-DB79D9174C65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AC72-17CD-4D8C-ABF8-2FDC510893D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C849-304A-4EB4-ABAC-3B1734B1C6D2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9D35-5A49-46C1-A8EE-102CA4FA643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Lucida Sans Unicode"/>
              </a:rPr>
              <a:t>What causes weather?</a:t>
            </a:r>
            <a:endParaRPr b="0" lang="en-US" sz="5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0" lang="en-US" sz="6000" spc="-1" strike="noStrike">
                <a:solidFill>
                  <a:srgbClr val="000000"/>
                </a:solidFill>
                <a:latin typeface="Lucida Sans Unicode"/>
              </a:rPr>
              <a:t>Which kind of air sinks? 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Sans Unicode"/>
              </a:rPr>
              <a:t>2. Why does it sink?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645080" y="268200"/>
            <a:ext cx="4048200" cy="11588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51920"/>
            <a:ext cx="4038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A cold front is when a cold air mass overtakes a warm air mass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97512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800600" y="503280"/>
            <a:ext cx="41911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Lucida Sans Unicode"/>
              </a:rPr>
              <a:t>A warm front is when a warm air mass overtakes a cold air mass . 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Picture 4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4267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1. What types of air masses are involved in a cold front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2. What is a warm front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3. What is the difference between a cold and warm front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0720" y="571176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763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54320" indent="-3409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A stationary front is when a cold air mass and a warm air mass meet and both stop moving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454320" indent="-340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2"/>
          <a:stretch/>
        </p:blipFill>
        <p:spPr>
          <a:xfrm>
            <a:off x="4572000" y="28195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053560" cy="1347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23493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190440" y="2362320"/>
            <a:ext cx="67438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 u="sng">
                <a:solidFill>
                  <a:srgbClr val="000000"/>
                </a:solidFill>
                <a:uFillTx/>
                <a:latin typeface="News Gothic MT"/>
              </a:rPr>
              <a:t>An occluded front is when a cold front overtakes a warm front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3"/>
          <a:stretch/>
        </p:blipFill>
        <p:spPr>
          <a:xfrm>
            <a:off x="5410080" y="4876920"/>
            <a:ext cx="3302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ucida Sans Unicode"/>
              </a:rPr>
              <a:t>1. What is a stationary front?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ucida Sans Unicode"/>
              </a:rPr>
              <a:t>2. What is an occluded front?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Each group should get 4 boards and one marker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1295280" y="97164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990720" y="74304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Anticipatory Set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Bellringer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Objective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Input (Notes on Fronts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Guided Practice – Front ID Game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Independent Practice – Handout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Closing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Lucida Sans Unicode"/>
              </a:rPr>
              <a:t>A warm air mass overtakes a cold air mass.</a:t>
            </a:r>
            <a:endParaRPr b="0" lang="en-US" sz="5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Lucida Sans Unicode"/>
              </a:rPr>
              <a:t>A cold front overtakes a warm front.</a:t>
            </a:r>
            <a:endParaRPr b="0" lang="en-US" sz="5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Lucida Sans Unicode"/>
              </a:rPr>
              <a:t>Cold and warm air masses meet and little movement occurs.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Lucida Sans Unicode"/>
              </a:rPr>
              <a:t>A cold air mass moves under the warm air mass, forcing the warm air up.</a:t>
            </a:r>
            <a:endParaRPr b="0" lang="en-US" sz="5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Lucida Sans Unicode"/>
              </a:rPr>
              <a:t>What do meteorologist call a large body of air that has similar temperatures and moisture throughout it? </a:t>
            </a:r>
            <a:endParaRPr b="0" lang="en-US" sz="5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Lucida Sans Unicode"/>
              </a:rPr>
              <a:t>What type of air rises?</a:t>
            </a:r>
            <a:endParaRPr b="0" lang="en-US" sz="5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2" descr=""/>
          <p:cNvPicPr/>
          <p:nvPr/>
        </p:nvPicPr>
        <p:blipFill>
          <a:blip r:embed="rId1"/>
          <a:stretch/>
        </p:blipFill>
        <p:spPr>
          <a:xfrm>
            <a:off x="450720" y="2852640"/>
            <a:ext cx="82425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Lucida Sans Unicode"/>
              </a:rPr>
              <a:t>After today you will be able to define an air mass and front.  You will also be able to identify types of fronts.</a:t>
            </a:r>
            <a:endParaRPr b="0" lang="en-US" sz="4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Lucida Sans Unicode"/>
              </a:rPr>
              <a:t>80% Mastery</a:t>
            </a:r>
            <a:endParaRPr b="0" lang="en-US" sz="5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438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7566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5029200" y="1219320"/>
            <a:ext cx="4114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An air mass is a large body of air that has similar temperature and moisture throughou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531000" indent="-39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0" y="1571760"/>
            <a:ext cx="50292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14120" y="1447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Lucida Sans Unicode"/>
              </a:rPr>
              <a:t>1. What is an air mass?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Lucida Sans Unicode"/>
              </a:rPr>
              <a:t>A front forms when two air masses meet.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04560" y="7621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Lucida Sans Unicode"/>
              </a:rPr>
              <a:t>Warm air rises because it is less dense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Lucida Sans Unicode"/>
              </a:rPr>
              <a:t>Cold air sinks because it is more dense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4:01:50Z</dcterms:created>
  <dc:creator>VB</dc:creator>
  <dc:description/>
  <dc:language>en-US</dc:language>
  <cp:lastModifiedBy>Caroline Roth</cp:lastModifiedBy>
  <dcterms:modified xsi:type="dcterms:W3CDTF">2011-05-24T02:25:54Z</dcterms:modified>
  <cp:revision>38</cp:revision>
  <dc:subject/>
  <dc:title>WIND!</dc:title>
</cp:coreProperties>
</file>